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EA1D0-133E-4DB0-BD6B-A7267C0DE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C6A3E-8971-4C1E-9FF9-1AD6AEE0C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F6DDA-9D91-4106-AC7F-CB89CB0ED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29EC7-5ECF-45B2-BDBC-776E2ACC2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5FA46-5C95-4250-BED3-5D53B7F7E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9B1B8-FC1A-403F-9E2A-B90A34253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D827C-14EE-4EA9-B184-58F613ED7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AF26B-CFB9-4C43-A1D8-90AB48680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7CF72-0BF8-48CA-8793-E254056F9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09029-42DA-405E-BD06-2CD8CCBC0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D6621-DEE2-43B3-9FB3-AF8E3E89B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8951D-224B-4F9A-A849-C96CDA929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3E91-6E84-4624-B4BE-6467602AF490}" type="slidenum">
              <a:rPr b="0" lang="en-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1360" y="114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1.3 Psycholog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898989"/>
              </a:solidFill>
              <a:latin typeface="Calibri"/>
            </a:endParaRPr>
          </a:p>
        </p:txBody>
      </p:sp>
      <p:pic>
        <p:nvPicPr>
          <p:cNvPr id="43" name="Picture 2" descr=""/>
          <p:cNvPicPr/>
          <p:nvPr/>
        </p:nvPicPr>
        <p:blipFill>
          <a:blip r:embed="rId1"/>
          <a:stretch/>
        </p:blipFill>
        <p:spPr>
          <a:xfrm>
            <a:off x="888840" y="1341360"/>
            <a:ext cx="7417080" cy="5256360"/>
          </a:xfrm>
          <a:prstGeom prst="rect">
            <a:avLst/>
          </a:prstGeom>
          <a:ln w="0">
            <a:noFill/>
          </a:ln>
        </p:spPr>
      </p:pic>
      <p:pic>
        <p:nvPicPr>
          <p:cNvPr id="44" name="Picture 2" descr=""/>
          <p:cNvPicPr/>
          <p:nvPr/>
        </p:nvPicPr>
        <p:blipFill>
          <a:blip r:embed="rId2"/>
          <a:stretch/>
        </p:blipFill>
        <p:spPr>
          <a:xfrm>
            <a:off x="900000" y="1268280"/>
            <a:ext cx="7417080" cy="525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Behaviourism</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 name="Picture 2" descr=""/>
          <p:cNvPicPr/>
          <p:nvPr/>
        </p:nvPicPr>
        <p:blipFill>
          <a:blip r:embed="rId1"/>
          <a:stretch/>
        </p:blipFill>
        <p:spPr>
          <a:xfrm>
            <a:off x="395280" y="1268280"/>
            <a:ext cx="8353440" cy="540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Behaviourism</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Behaviourists believe that psychologists can predict and control or modify human behaviour by identifying the factors that motivate it in the first plac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Behaviourists placed particular stress on the early childhood years, and the rules or practices parents use to raise their children because they believe these methods have a huge influence on the character of individuals even into adulthoo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Charles B. Watson (1878-1958)</a:t>
            </a:r>
            <a:endParaRPr b="0" lang="en-US" sz="4400" spc="-1" strike="noStrike">
              <a:solidFill>
                <a:srgbClr val="000000"/>
              </a:solidFill>
              <a:latin typeface="Calibri"/>
            </a:endParaRPr>
          </a:p>
        </p:txBody>
      </p:sp>
      <p:pic>
        <p:nvPicPr>
          <p:cNvPr id="69" name="Picture 2" descr=""/>
          <p:cNvPicPr/>
          <p:nvPr/>
        </p:nvPicPr>
        <p:blipFill>
          <a:blip r:embed="rId1"/>
          <a:stretch/>
        </p:blipFill>
        <p:spPr>
          <a:xfrm>
            <a:off x="2268360" y="1557360"/>
            <a:ext cx="4104000" cy="478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Charles B. Watson</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The founder of behaviour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He used animal experiments to determine whether strict of flexible learning patterns are more effectiv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Wrote book “Psychological Care of the Infant and Child” concluded that children should be  brought up using a ‘scientific’, strictly scheduled, rules-based mode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Benjamin Spock (1903-1998)</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 name="Picture 3" descr=""/>
          <p:cNvPicPr/>
          <p:nvPr/>
        </p:nvPicPr>
        <p:blipFill>
          <a:blip r:embed="rId1"/>
          <a:stretch/>
        </p:blipFill>
        <p:spPr>
          <a:xfrm>
            <a:off x="3059280" y="2276640"/>
            <a:ext cx="3025440" cy="367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Benjamin Spock</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He believed that a permissive approach to child rearing, rather than a strict one, would result in successful, well-adjusted ad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He encouraged parents to be loving, flexible and supportiv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Behaviourism</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Correct child-rearing methods would result in well-adjusted ad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Learning Theory</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2" descr=""/>
          <p:cNvPicPr/>
          <p:nvPr/>
        </p:nvPicPr>
        <p:blipFill>
          <a:blip r:embed="rId1"/>
          <a:stretch/>
        </p:blipFill>
        <p:spPr>
          <a:xfrm>
            <a:off x="1187280" y="1268280"/>
            <a:ext cx="7056720" cy="532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Learning Theory</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Learning Theorists agree that humans are born with little instinct but much learning potent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hey believe that most human behaviour is learned, especially in child and yout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Learning Theory</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By controlling the way in which humans learn behaviours, society can have a great influence on their ultimate personaliti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Believe that children who were brought up in loving families would grow up to become secure and loving adults, but only if parents provided clear and consistent expectations for good behaviour, and swift but fair consequences for bad behaviou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From Yesterda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What is psych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ypes of Psych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Psychological Schools of Thou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Psychoanalytic The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CA" sz="4000" spc="-1" strike="noStrike">
                <a:solidFill>
                  <a:srgbClr val="000000"/>
                </a:solidFill>
                <a:latin typeface="Calibri"/>
              </a:rPr>
              <a:t>B.F. Skinner (1904-1990)</a:t>
            </a:r>
            <a:br>
              <a:rPr sz="4000"/>
            </a:br>
            <a:endParaRPr b="0" lang="en-US" sz="40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050920" y="1989000"/>
            <a:ext cx="5257800" cy="4081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kinner- Learning Theory</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Skinner proved that pigeons could be trained to peck at a particular coloured disk to get food rewar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Rats received food rewards for pressing specific levers in a complicated sequence leading many theorists to believe that learning was a </a:t>
            </a:r>
            <a:r>
              <a:rPr b="1" lang="en-CA" sz="3200" spc="-1" strike="noStrike">
                <a:solidFill>
                  <a:srgbClr val="000000"/>
                </a:solidFill>
                <a:latin typeface="Calibri"/>
              </a:rPr>
              <a:t>STIMULUS-RESPONSE</a:t>
            </a:r>
            <a:r>
              <a:rPr b="0" lang="en-CA" sz="3200" spc="-1" strike="noStrike">
                <a:solidFill>
                  <a:srgbClr val="000000"/>
                </a:solidFill>
                <a:latin typeface="Calibri"/>
              </a:rPr>
              <a:t> eff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kinner- Learning Theory</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He believed that if the subject is correctly stimulated it will give the appropriate respon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Ivan Pavlov (1849-1936)</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2" descr=""/>
          <p:cNvPicPr/>
          <p:nvPr/>
        </p:nvPicPr>
        <p:blipFill>
          <a:blip r:embed="rId1"/>
          <a:stretch/>
        </p:blipFill>
        <p:spPr>
          <a:xfrm>
            <a:off x="1042920" y="1557360"/>
            <a:ext cx="7345440" cy="5111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Ivan Pavlov</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Pavlov’s experiments with dogs showed that is was possible to get a dog to associate the sound of a bell with the imminent arrival of foo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t the sound of a bell, the dog would salivate in anticip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lfred Bandura (Born in 1925)</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Bandura concluded that learning is largely a modeling experience and more complicated than a mere stimulus-response effec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When humans observe behaviour – either acceptable or unacceptable – they are more likely to practice 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lfred Bandura</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Experiment- Bo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Question – What does this mean to us?  What applications can be made to tod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Freud</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Freud felt that individual sexual satisfaction or frustration was the key element in personality develo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lfred Adler (1870-1937)</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Picture 2" descr=""/>
          <p:cNvPicPr/>
          <p:nvPr/>
        </p:nvPicPr>
        <p:blipFill>
          <a:blip r:embed="rId1"/>
          <a:stretch/>
        </p:blipFill>
        <p:spPr>
          <a:xfrm>
            <a:off x="250920" y="1700280"/>
            <a:ext cx="8713800" cy="478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lfred Adler </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dler believed that difficulties people encounter in gaining self-esteem and recognition, if not overcome by the normal means, lead to compensatory behaviour and resultant personality disorders which are now widely referred to as an </a:t>
            </a:r>
            <a:r>
              <a:rPr b="0" i="1" lang="en-CA" sz="3200" spc="-1" strike="noStrike">
                <a:solidFill>
                  <a:srgbClr val="000000"/>
                </a:solidFill>
                <a:latin typeface="Calibri"/>
              </a:rPr>
              <a:t>inferiority complex</a:t>
            </a:r>
            <a:r>
              <a:rPr b="0" lang="en-C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Carl Jung (1875-1961)</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2" descr=""/>
          <p:cNvPicPr/>
          <p:nvPr/>
        </p:nvPicPr>
        <p:blipFill>
          <a:blip r:embed="rId1"/>
          <a:stretch/>
        </p:blipFill>
        <p:spPr>
          <a:xfrm>
            <a:off x="755640" y="1268280"/>
            <a:ext cx="7993080" cy="521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Carl Jung</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Responsible for the identification of the </a:t>
            </a:r>
            <a:r>
              <a:rPr b="0" i="1" lang="en-CA" sz="3000" spc="-1" strike="noStrike">
                <a:solidFill>
                  <a:srgbClr val="000000"/>
                </a:solidFill>
                <a:latin typeface="Calibri"/>
              </a:rPr>
              <a:t>Extroverted</a:t>
            </a:r>
            <a:r>
              <a:rPr b="0" lang="en-CA" sz="3000" spc="-1" strike="noStrike">
                <a:solidFill>
                  <a:srgbClr val="000000"/>
                </a:solidFill>
                <a:latin typeface="Calibri"/>
              </a:rPr>
              <a:t> (outward-looking; outgoing; rely on others for sense of well being) and </a:t>
            </a:r>
            <a:r>
              <a:rPr b="0" i="1" lang="en-CA" sz="3000" spc="-1" strike="noStrike">
                <a:solidFill>
                  <a:srgbClr val="000000"/>
                </a:solidFill>
                <a:latin typeface="Calibri"/>
              </a:rPr>
              <a:t>Introverted</a:t>
            </a:r>
            <a:r>
              <a:rPr b="0" lang="en-CA" sz="3000" spc="-1" strike="noStrike">
                <a:solidFill>
                  <a:srgbClr val="000000"/>
                </a:solidFill>
                <a:latin typeface="Calibri"/>
              </a:rPr>
              <a:t> (inward-looking; emotionally self sufficient; well being comes from within) personality typ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The other aspect of Jung's work which has been very influential is his approach to the analysis of dream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Carl Jung</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Worked closely with Freud but split later in their care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Psychoanalytic Theory</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Emphasizes individual counsellin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Trained practitioner leads patient to explore critical prior experienc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Frequently those from childhoo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Allows patients to explore and explain their understanding of self and othe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13:50:02Z</dcterms:created>
  <dc:creator>Jason</dc:creator>
  <dc:description/>
  <dc:language>en-US</dc:language>
  <cp:lastModifiedBy>Jason</cp:lastModifiedBy>
  <dcterms:modified xsi:type="dcterms:W3CDTF">2010-09-14T16:01:02Z</dcterms:modified>
  <cp:revision>8</cp:revision>
  <dc:subject/>
  <dc:title>1.3 Psychology</dc:title>
</cp:coreProperties>
</file>